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40F-0E13-48B0-AC25-EFC7A2B1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D36-B5FE-41C8-AF2F-3C45E91B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341E-78A0-4274-B76F-F3BAFADD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1F8D1-484A-4AA7-A2E5-37E92FB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1D62F-4ED8-4ED8-AB81-ACFAB1C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38732-5DB9-44D5-95A3-BACA619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863FA-A6E1-444D-821A-AF32E30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CEB8B-B67B-431B-A98C-F2EE40B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09AC-5ACA-428F-A8BB-C642F07F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6A041-27FA-46BA-B2B6-6F789CCE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6766-2126-4831-A29D-C1CA2FED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D01FE-C12A-4284-8B92-58F60724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A24-2B24-42A6-8756-CE2CBAF3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F70C0-42A2-4817-A728-12F975C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57EF6-2512-4DDB-AD5A-8A08FD01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6CB71-CD3A-48D4-A415-A6E2A3B3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4931-D86E-416D-B034-2DDCE967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42F29-39B6-4602-B090-E8BBFD99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FA56E-8D2A-44B1-B349-AFF5E15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B491E-4289-420F-9CBD-8F259EC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10ED2-3491-4A89-88F4-F9A058B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34CBE-BA9E-457F-BA3E-CB8EC02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3EE7A-31AF-498E-A4F0-9D458161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E1D-9A9A-4D7B-BA28-16A39ED2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44F2E-A86C-4810-A7BB-D2C9A1EA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42BD-1FC2-4515-ACBF-0D227571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5D0B6-D2C1-4006-B3FE-2019816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2A0BA-56C9-437C-8211-AE3C440B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EAA64-465D-4690-9CC2-6801B1AA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3BA0-3F61-4FFF-9474-ADCBCC6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93582-98B1-4878-AA93-7FF2BCD4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B78DE-1DB8-44EF-B9A3-DEAF790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5FAC1-1808-4C08-84A8-E186986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5D53D-5812-412E-B3B9-2DD1CEC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17C6-5C3C-4712-86BA-A4CBF4C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AC5A5-9A94-41EB-B47A-8826A28D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39C3-ACFB-47AF-BA7D-2FE89A35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C29C4-1968-4212-B600-CD534F98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3B11-CB50-47EB-8BE1-F4F383D4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C113F-0269-4D87-938D-3B1C8E77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FBF55-3F2E-4820-A36E-FB3A8F9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B7735-0C7F-425F-8B23-6BA6866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DE84B-E41D-469A-B5F5-17513C65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E9897-EB58-4F66-99FC-E2262828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1DC27-1985-4155-886D-A32D1EA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0E09-01C6-4C2D-BD80-9B0AB17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93E15-82C6-4B33-8B28-7CCBD57C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02F46-15F8-4803-A40C-CA1DBBF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07E4E-7883-4E6C-87E3-A74BDB5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18D4C-D971-48E5-B40F-AC6598A2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8BA61-3761-4E4E-8B35-51EB42D1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EECFF-8748-4D9E-B472-CCB2E180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5A302-3FE4-40A2-A810-4AFD1E0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9A3FA-FF88-4F5B-BEEB-D4BF5AF6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0047B-1977-4CEF-886A-5556CD17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82F60-BA4D-45FC-BD09-350607F6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697F-A267-4787-B90B-7ED9E8B9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FB615-A3FB-44BE-90AB-35FA09F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3431B-B45C-4133-9D29-3344D35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E6DF7-1566-4B46-991D-5AFAF25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CF9D8-F735-4889-B31D-2DFF019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3AC14-6FF7-4C21-93E7-6EAA85D7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963D5-F50C-4491-BB1F-47ADA6FE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41653-C179-4521-BE7C-C030AAA3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5CD19-54AB-4D26-87D2-804EB0AA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96FC5-626A-4DE6-804B-F21FF58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B604E-7F01-463A-93C2-462E2B5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BED-1C0C-4EC9-84A6-1C618984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B1224-1911-4639-9680-22CF738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25BCE-55AE-45A6-AE98-9889EC1B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D8011-848A-4F4E-83E3-76DEC35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0261D-BC2B-402E-B8C7-5B5FF45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56F5C-53A4-4959-A5F6-31DA663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271CA-1861-436E-BA95-41C3A6D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E6A35-00A6-4D42-9939-CE0D2C8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97D4A-5CAB-4523-8708-F6C262BA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00350-021E-4D88-99EB-E4288344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84581-3A07-41CA-9E69-FEA8E861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DBCF-4171-4471-BD39-B9FA536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97EAE-23AD-4134-A729-30AD96D8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2894A-0F9F-42E8-AD90-AA52E82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30440-DA46-4DF7-BAC5-29CADA9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902A2-E807-4F10-A82F-5911E8DD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80EC0-5371-4951-832D-60D151F0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0A048-A87C-4A49-BB56-ABA3E9A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E1436-9FFA-4D79-BC9B-082EBCE0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890DF-0679-46AE-8209-75FE8E1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41CDE-056B-4D9A-AE59-B9B9F66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FCF31-ABB2-41CF-81C6-A414D61B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6446-0C8D-4E54-BE4D-907ED766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258C2-6772-4146-AB0E-2AEF69F8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F6389-A729-4C78-A758-E65A1B42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CA5F8-C20A-4729-BECC-30551553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8BF42-3E35-477D-BE29-89129A8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C2192-79CA-44DA-B96D-3E86AFD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C5631-AD91-462B-88C1-E5D3FAE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9CD23-8856-4378-8579-1B93214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8032F-865E-41DF-9E75-E12F440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3ECAC-6C8E-4D58-8E48-28D1E7F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36C8A-5FEE-472C-BCC7-3E97567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5C8-F519-4BB4-BD39-64DA5EC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ED3FA-19C4-42B1-901E-BE27AB28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1DE89-7A7D-41A4-84BD-2275B27C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12AC7-94C2-41E8-AACA-9936D30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44A2B-3509-40FA-964F-1148C79A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C3184-81B1-426C-87F1-14A6888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1D89E-43E9-4DB8-B4B7-36E2F5F1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F30C2-531E-42E2-82F5-49755E7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22E0D-F4B3-4CD4-8B74-8779587B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F9BDC-C63E-4898-922B-EC0FDBFA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FBDEB-6766-46F3-9408-3E90391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9A3-CDFB-44D9-9ED3-8625AF56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42A-CE1A-4298-BB89-307DDC4C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2082F-8F94-43B4-AAFA-8E6F236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22C61-AF45-46CE-9C13-762764D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EEB4D-1852-42B2-B2BB-F54A71DD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33C04-F737-4B7E-9E5C-90AA57FF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3AA38-D4FE-4DA6-90B6-46A5363D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62784-5679-4D39-8E69-94BFCDBC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463AF-F165-437A-9C03-2FE92ECE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7F7BD-A19D-4A02-9629-C7965A58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A7EEB-C30E-4B7C-8E32-5CF5743B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37974-EF53-42EF-A7E2-23B047F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4C43-5259-4DA2-969C-267A118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ED426-166C-452A-8163-F75B704B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77C46-38C6-491C-97FF-7F8A4AB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F6DF1-73C5-43DC-9375-141561A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94497-96C1-4112-BD75-543AFD4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613AA-3C9A-499C-BC9D-72EB89D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21A0B-127F-4D3B-AB40-25869BBC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7EED2-C25A-4903-BCD5-9A97C71E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A7AF0-C4ED-4224-A67E-48A482E9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D217E-A621-4610-B27D-E20695B8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D1B42-19A4-4BE7-81C2-F54152CB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6F7-027A-4F59-986B-8EFA5A22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137C6-D135-49E7-A4D9-AFC5ABAD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DB6201-7458-43E0-B3B6-414BDA75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C71E5-6006-4626-B44E-57B46D1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B4A87-14BE-4185-86F5-6B776B56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54AE8-4CD2-4FA6-AC20-6D2F987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5AFA9-683C-4211-83CB-9353E8B5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4EC89-D71F-41A2-8AB0-8A45446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E1E2C-CCFB-4AA4-983E-308699B1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614BC-54FA-41EF-8B3A-CD2D9AE1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8BC37-A629-4EF4-88E1-9E70315B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C55D-F56F-4B7C-B8B5-12CCEBBC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35C9A-D816-4ABA-BDEA-361E931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C47EE-3364-42A9-BCD8-6312DE0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69D3C-DF6E-4F56-BD3A-535E0FBB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DACE9-09C2-43F6-90DD-B2BC8CE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22551-674B-4895-BC09-C1705EF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3C090-6C3E-4D22-BBE6-1DA661F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04DA4-CE62-4090-86EC-A358B37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7996C-EC2D-4F44-A928-A6093DAA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A219D-48A8-4668-A636-4EC84AEB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1169B-413C-4EF2-BBD1-59D64F6C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E5E-429B-4DE6-A454-BB5DE8CF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F5984-A3AB-4CC7-9106-8EB5EE82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CA117-BE38-4E46-8CA6-D20BF79A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8B480-F06D-4600-9EA8-1BE1D08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6106A-783B-4352-A07D-11D4DF99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5DFC5-CE2E-4656-85F3-1F8B5540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27326-B596-45BF-A7E9-3505AF5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142C2-78A1-448E-B4C0-07D7C82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157F4-49B8-4F3B-B2A7-6A38E19D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D3840-75A4-4B3E-9BF4-A72DE5F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C30D24-0096-4D41-B01C-2CA6D20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A7E4-D60E-4E96-9931-7E054965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3FCFB-AF16-4CFB-8CD4-881A56EE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D934D-8FB5-4878-81E8-A324AFAF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8A0B8-6CC6-427F-9C22-597AE438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5AD3F4-7881-4C86-B85E-D83F4DA7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062B92-8072-476D-91F3-243BCF4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36B8B2-3B9F-4175-98A9-07CCCFFB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D5F17-2F53-406D-A978-3B301823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F825F2-A6B6-479A-A9BD-BCB2F62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B3CF56-8864-422D-82B2-F3BD1C36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34302-17C0-40EB-97DA-2481749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D9DD-D116-446D-8278-946CBA3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2E41C8-7C8A-40DE-AED0-3E75A6E2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2EE752-3603-4106-ACB4-BD20733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EB6C94-07A8-43A4-BED2-2065A19B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9B3BE-F423-4803-ACF7-53C65970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122087-6823-4D67-9703-7FDFD98B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D4829-A902-4F8B-A384-639E97E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F8096-BD3A-468D-AF87-4CBA3B3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ACD6E-4723-4544-8395-733D304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3F18F-4604-41D4-8746-6B6386E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1237F-8386-4E32-A4B9-AA3D0D9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30F1-1174-41E7-9DD5-568624FC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18CD83-AF5B-404C-9AD2-2DAE327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B3E824-30A0-4D33-A6DD-647D6D2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F880B-DCD3-417F-B85A-808A47F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266443-0BB3-411B-A2F0-0B05EB9C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FD5911-2E18-44D7-A454-B1BEA0D3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32707-33C9-4FAE-8F03-74FCB6DA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C551D-5A74-4747-A29B-F3AB6AA1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730E8A-64DE-42A0-A7C8-B75AED21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A2BC33-0B87-4AFC-94B0-7EA322E9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CFDFE-F60B-4496-B7EB-B90FD2F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43CB-5A5E-4818-A8DF-9969445D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63FE2D-F08A-45AE-8B0A-775181B2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F493AF-112F-4585-986A-B87B3F0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667F22-0036-4AB8-821B-38002AFE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E07849-EDF6-48FF-A929-80A8D03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56373C-3689-4F53-8658-91D24BA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149B18-709E-4954-8475-FC3CE787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96EBB0-E6AF-44D1-BB38-EB68D8C7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91A24-AF92-4456-99CB-99FE71CD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1B8C75-F2F0-4F58-8C91-B9AE329D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7623C6-8501-4974-8D5A-EE5DD150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A07E-B9BA-4985-B121-D216F1FD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E9A23E-851E-43E9-AC49-0266B4A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0A4D64-25D5-439F-8611-F090419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FDF76C-7C0C-40C1-901B-A7E1915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E11E67-16CC-4A57-9CD8-E6CBBFA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CF36AA-AD34-4E67-A26A-7DB281D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7BF3E4-6B4A-4B76-8C18-9453675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B714AC-03E1-40E4-88F9-4394000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2E0C86-A30E-41BA-AED0-6218D307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347F9C-5570-4FE2-9501-C30773F0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40DC94-AA08-4E92-A469-5189DF00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B26-9A4E-4D3B-8DA9-EB679FB8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9064-FD3C-404E-AE89-77787D5F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A76C96-B6FD-4886-99EB-C2643F6A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7AF00F-474C-4377-A154-DBB41116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073164-68EA-40DA-9B9E-1B2E660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0A85EB-ADFE-4927-9888-4724F16C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852333-3EEA-41A4-A4E7-009FD639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BC321C-B9BD-4486-B005-EBE9E4FF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9BFB26-47FA-427B-B95E-DE72DEF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C57C89-A0ED-4CAB-BC3A-EA44E7F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F2B4A3-5F5F-4991-8FD9-8EAA2F4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19AC3-C0CE-40EB-AB35-EB6CB193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2CA9-F570-4B6C-80B6-C2CEFCAB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5EE9D0-C1C4-4B2E-8E14-A8DF94E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663B9B-64BE-44A9-BB3C-5A3CA5BC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B26D89-424D-4023-9C4E-D2BFB795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F40E1-EF74-475B-89A9-E00A684D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369DEE-5D19-43E1-A36E-DAED24ED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416633-885A-4814-93AB-0E59E0CE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41D165-2554-4696-96F9-3144B105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AFD5B7-6070-4DB1-8459-E361153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2DBF75-6AD5-4785-978C-537C741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4A2A60-8849-4561-81B9-ADCCAC5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D2E3-DEC9-4781-A0AD-E812617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DCC9B2-F11C-4D8E-A15F-86D5AAD6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2552DF-9E36-4FA8-9FA0-28CE31F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3E317F-2A1A-4759-A76F-E76A7198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D7021-AD7A-4E13-9E9D-43BC8957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BB8F94-7D80-4239-A046-0C888555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AEDB0-EB2E-4486-87A4-4E46C44B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994044-79ED-4F29-81CD-33500C71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D8116C-E497-4393-9846-522E5B29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DC1369-21A5-48A2-9E73-CF1002FD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2C6D11-D199-40D0-97DF-C7A663D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533B-08B8-45FC-A00B-AEEBD67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27CE70-1C0B-40E4-A9F9-495A6E8F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DB5E0D-54C7-4BF9-BEE2-48733750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7EDBC3-2115-4ECB-9B1A-CEC97B6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219597-7806-442A-829C-0CF2793C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C29FB3-BFF7-4B42-A729-E46F9181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FCF3AF-82DA-4885-AD0A-6D1E1E9F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C8AB66-D0CE-4638-92F4-AC8E3DD7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2980B9-2CE3-454F-A9B3-DCC2AD15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FF11F2-DAB8-4C35-AB6E-40D27645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D85DE0-5DCA-48DC-B6F8-1D6058D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E24D-4539-4B06-B72D-03A0E4AB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A7E3CD-C34C-46DD-867D-0D9D325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3ED69B-E775-47C1-804B-C7EBE9B5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D1C624-BEFA-408F-A9C5-91AB4A88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10B523-2ABD-4319-80EE-C49FDD99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A8BAE2-13A2-4832-AC6E-866733A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C9756A-2CDB-4655-8A5D-853AF64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7FC2C7-357D-4F95-92E4-D6DB9D4D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34C701-214D-42ED-99BE-FA429243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374E59-7BA8-4C2C-82A9-9299A20B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10E5F4-9643-48F5-878A-2B55FADD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2875-2A30-4192-A621-D12454E5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36BF02-7CFB-48FC-989A-E1BD9A8E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D141C9-00BE-43A1-B76D-0C7DFE0F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56DD6B-9F21-42D6-BB55-A5F83C07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0AC30D-532C-4033-8D40-7D0613B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2E423D-94F0-4C25-B06F-FFE04E40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832431-93A7-4828-90D8-EDB3561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B5A2CA-0954-415E-B08B-35369E6E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66D18E-5B69-4CCE-B5EA-98B59E2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A24F8E-B773-40DC-B5BC-FC20117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B0EDDD-BC41-43E7-8261-5D39CA21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44E4-AF5F-41E0-9100-DEF69F37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262D04-66D8-494C-86E6-7DE6FF29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33D3EE-91EC-4424-91E7-19068676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032EFB-4BC1-452A-8DB9-917D8B6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460C5E-A781-44C1-9452-39F9BB0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0774B0-CD3C-4F11-9128-C3155D8E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EC1614-8DEF-4054-AA8B-8F04C32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3E1269-10CE-46BB-9A81-C6364BC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8A8826-DF87-4FF5-BBB3-D4EAF65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8149DC-2D9E-49D0-81F8-20896AB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792262-4307-4979-9DB9-899A9EB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D312-B209-47B2-8498-8B2911E2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B42705-60C5-4929-9A36-ECE01B4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981C0F-558E-4191-8773-E975CF5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BF9F54-BA1A-4371-8030-05A58119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8D80-CA34-4F0A-B29E-DDB4D433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69C2-A5AE-406B-8AF8-2217A43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E17-FDB1-4262-860B-1373242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75F5-93FF-44DB-8FF5-D95AB2A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6DF8-6AD6-45EE-8D5C-D2081353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8CD6-E530-44D5-8731-802D6B0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044A-8143-41B6-8D85-BC90E98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114A-D568-4776-BB2D-5470EC3F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6EC9-6F9D-47A1-999D-7CCDF10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B1CA-1982-42A5-92A3-07E349EF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D0C4-F211-4D46-8CDB-AC7EBA6A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F865F-3CE1-4CB8-B511-BA169E7B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4B17-BC7E-463C-9AF2-C1BA0E1D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014-2ED4-4910-9E53-889A2A59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70D5-9DCD-4686-B48B-81094A6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61F8-EEA8-47F3-8CBB-8E02BAFE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8F04-C707-4747-971C-4C210906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F576-5704-4E13-9E07-72F617E4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501E-5AC7-4F92-843C-0A839D64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BD0A-583F-45C2-AD1F-7757D8F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D908-9285-4E96-88B1-98214F5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FE2F-27C8-4897-BA91-80AC381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6025-E3DA-4D71-8B33-E1D9D12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FB42-4B88-4DCA-A374-A9BD967B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1DF-6BD6-42CE-A4BA-5E04400D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28B9-9430-4C6A-A630-66479822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2DA2-C2B2-43AA-B3CA-C5DBEC98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FB2C-D82E-4ADB-988F-C13D387F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5602-1507-4C9A-84C8-A5EA984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650B-ACDC-4AAC-A8BA-2E1429F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4D21-48DB-4FB6-A6B0-0EBE0C0F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3B8E-4F5F-47A6-854E-A4E9443B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36FE-91A5-487A-8103-1D136EB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8974-CACC-4C7F-96A9-8BCE552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23C6-8618-4658-B76E-CCC124F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D09-CD1D-47CC-8129-F57B449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D98A-FC9F-45F4-A75E-C9363F37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B9FC-FE3B-418F-9622-23707D5B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E1BD3-CAF9-459E-AFDD-8D57262A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283C-8CD7-47A3-A4DC-9BBE386F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D8C4-D25B-4576-98DC-BA1AB93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313F-3E31-4977-B020-D8663C0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6160-694A-4162-958A-7B826B07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9042-C18E-410A-8215-97D11DF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DA6E1-4413-4E8D-86FA-7F226E70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3704-77D0-44E1-A357-852BC7CB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11F-4CDA-40BD-B7CF-418C4ED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95F48-B797-4758-A852-096F263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87FD3-E4D1-4759-9A69-C23F463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FE94-BE59-4379-BDCD-41FEC84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BA64-D76A-40C0-8ABA-BED1A9D8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0F58-C2EA-42D0-9C19-38E84C25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518F-820A-47BC-B4F4-2774B1A3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02CB-A335-43E6-8B0B-C976CDE3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B0BD-8969-4DFB-803B-9CE4A7D5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244D5-8D76-4F8A-AA33-9A531BF3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904A9-9410-4B3F-A677-E423D718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4B3-9FCE-4A9C-A8EA-0673EA3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3013-DFBF-417A-985A-372DD247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5ADCE-88D7-48EC-AF11-DDCC7F5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38B0-5B10-4475-A2CE-FA0ACBA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5C144-0A2A-454F-A59C-B63A4F6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2E692-CA6A-41F0-A132-CF051B06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E1289-06F2-4D40-BB25-F5319377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0EDF-83BA-403F-834C-025B967E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0A6FE-9348-42E6-BB51-12964E85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FED0C-9D48-498C-847D-F1483DEC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D6CB5-6A1E-415A-9BFD-4B0A9C1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FFA8-5B34-4DAB-BB9C-FF260B5930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C8AD-86B8-44A8-ABB2-C4EDD545B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C42-803A-4B9D-8602-A5F3C9B0CB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89DE-D814-4D71-91F1-7A1B4F4331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8032-809C-4937-9FC1-095D803A52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18E-84B0-4C4D-BA4A-934725FFB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33A-700B-48C8-9A06-F4EB9378B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5CA6-92F4-4CF4-ACF7-6EC4056718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1E0C-F6D9-40C9-8E53-0CBC5645D0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960A-32E8-47CF-9E2E-129156843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2B37-0272-4C9F-AB61-013461B7A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BE6F-5555-4FC5-B7B4-413E58FE8B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C596-570A-4D2C-9A61-864F9057F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330-686E-4027-9C1C-B27892929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A27A-6B57-484B-9A17-136F5E8D5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02B-002E-4306-8D68-D0B6EEDAF8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9D8-72DA-47A7-A3AD-E47E4D58C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557E-D38D-48D4-BEB8-42A2A5B17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E17-E224-4596-8712-58CCA992EA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5E14-D034-423E-A7D3-460E6111D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47C5-6BAF-4E56-9225-90DCD3AE8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D953-7A39-43AE-BAE0-915035001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8D2-8A30-42C4-A215-8E22B8AE47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BA21-D63F-47A5-AA5F-D6C727615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F44D-9BC0-492E-8D78-61CA1A3EE8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B891-B8F0-4DD9-A08F-991461DBD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5635-7B76-46F5-89DD-F85274088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0E8-D021-44FB-8032-8F90564E8A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8854-2CF9-453A-AAD1-0EA4A3553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4DE-49C0-49B3-9D08-6E20602870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0EA6-2E8D-43BE-98E3-F915B6147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FBF-6FCD-40D9-B2F6-07691A3DA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3BA-1CC1-4F1C-BF17-C258DA13E2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5F77-32CB-42AE-AB6C-BFE10077E5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CFB-9EB9-4E9A-996D-4E1D3A26D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6253-B7B4-4932-AEBC-C7A5318A1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9241-5B69-4B05-B1CF-159840BB0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969A-BBD4-4D65-99C1-87B1645BE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1D2-1F58-44A4-AC1D-6C1A0D8A9E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9E44-B78C-448E-82B6-F72E8761AB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8E2-BD0B-4B90-A4D5-A95FB5B74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403-BC68-4ACE-AC21-D81BC40D7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C2E-9C9F-45EA-86A4-E7F2C51610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48E-C391-44AC-B86B-518C40226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16E1-D008-4F40-A71D-EC51D3B10C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E58-1BC2-478C-B6F1-4F0DD5C799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317-D208-49C1-B0D1-E8929FD356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5687-AF3F-45B9-B133-7BF11B1870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4818-257F-4EE7-8F01-269D84A77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E4B6-FF8C-48AD-A4C2-5740C2124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05240" y="2128680"/>
            <a:ext cx="4133520" cy="7527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209760" y="3086280"/>
            <a:ext cx="2724480" cy="6858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527120" y="3933720"/>
            <a:ext cx="6276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6737" descr=""/>
          <p:cNvPicPr/>
          <p:nvPr/>
        </p:nvPicPr>
        <p:blipFill>
          <a:blip r:embed="rId1"/>
          <a:stretch/>
        </p:blipFill>
        <p:spPr>
          <a:xfrm>
            <a:off x="533520" y="2128680"/>
            <a:ext cx="80769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571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10360" cy="308628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15714" descr=""/>
          <p:cNvPicPr/>
          <p:nvPr/>
        </p:nvPicPr>
        <p:blipFill>
          <a:blip r:embed="rId2"/>
          <a:stretch/>
        </p:blipFill>
        <p:spPr>
          <a:xfrm>
            <a:off x="1033560" y="3921120"/>
            <a:ext cx="5505480" cy="14670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5715"/>
          <p:cNvSpPr/>
          <p:nvPr/>
        </p:nvSpPr>
        <p:spPr>
          <a:xfrm>
            <a:off x="7697880" y="18255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4689" descr=""/>
          <p:cNvPicPr/>
          <p:nvPr/>
        </p:nvPicPr>
        <p:blipFill>
          <a:blip r:embed="rId1"/>
          <a:stretch/>
        </p:blipFill>
        <p:spPr>
          <a:xfrm>
            <a:off x="542880" y="1619280"/>
            <a:ext cx="8058240" cy="36194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4690"/>
          <p:cNvSpPr/>
          <p:nvPr/>
        </p:nvSpPr>
        <p:spPr>
          <a:xfrm>
            <a:off x="7802640" y="26924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366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81920" cy="471492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3666"/>
          <p:cNvSpPr/>
          <p:nvPr/>
        </p:nvSpPr>
        <p:spPr>
          <a:xfrm>
            <a:off x="7783560" y="32353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3667"/>
          <p:cNvSpPr/>
          <p:nvPr/>
        </p:nvSpPr>
        <p:spPr>
          <a:xfrm>
            <a:off x="7812000" y="42926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3668"/>
          <p:cNvSpPr/>
          <p:nvPr/>
        </p:nvSpPr>
        <p:spPr>
          <a:xfrm>
            <a:off x="7740720" y="53737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2641" descr=""/>
          <p:cNvPicPr/>
          <p:nvPr/>
        </p:nvPicPr>
        <p:blipFill>
          <a:blip r:embed="rId1"/>
          <a:stretch/>
        </p:blipFill>
        <p:spPr>
          <a:xfrm>
            <a:off x="566640" y="2171880"/>
            <a:ext cx="8010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1617" descr=""/>
          <p:cNvPicPr/>
          <p:nvPr/>
        </p:nvPicPr>
        <p:blipFill>
          <a:blip r:embed="rId1"/>
          <a:stretch/>
        </p:blipFill>
        <p:spPr>
          <a:xfrm>
            <a:off x="857160" y="995400"/>
            <a:ext cx="7429680" cy="4867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1618"/>
          <p:cNvSpPr/>
          <p:nvPr/>
        </p:nvSpPr>
        <p:spPr>
          <a:xfrm>
            <a:off x="4564080" y="3825720"/>
            <a:ext cx="9428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1619"/>
          <p:cNvSpPr/>
          <p:nvPr/>
        </p:nvSpPr>
        <p:spPr>
          <a:xfrm>
            <a:off x="7412040" y="38163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1620"/>
          <p:cNvSpPr/>
          <p:nvPr/>
        </p:nvSpPr>
        <p:spPr>
          <a:xfrm>
            <a:off x="6948360" y="4365720"/>
            <a:ext cx="13147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1621"/>
          <p:cNvSpPr/>
          <p:nvPr/>
        </p:nvSpPr>
        <p:spPr>
          <a:xfrm>
            <a:off x="1322280" y="4875120"/>
            <a:ext cx="13147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1622"/>
          <p:cNvSpPr/>
          <p:nvPr/>
        </p:nvSpPr>
        <p:spPr>
          <a:xfrm>
            <a:off x="4994280" y="5425920"/>
            <a:ext cx="695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0593" descr=""/>
          <p:cNvPicPr/>
          <p:nvPr/>
        </p:nvPicPr>
        <p:blipFill>
          <a:blip r:embed="rId1"/>
          <a:stretch/>
        </p:blipFill>
        <p:spPr>
          <a:xfrm>
            <a:off x="538200" y="1557360"/>
            <a:ext cx="8067600" cy="37432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0594"/>
          <p:cNvSpPr/>
          <p:nvPr/>
        </p:nvSpPr>
        <p:spPr>
          <a:xfrm>
            <a:off x="7792920" y="38354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09569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419960" cy="22957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09570" descr=""/>
          <p:cNvPicPr/>
          <p:nvPr/>
        </p:nvPicPr>
        <p:blipFill>
          <a:blip r:embed="rId2"/>
          <a:stretch/>
        </p:blipFill>
        <p:spPr>
          <a:xfrm>
            <a:off x="779400" y="3424320"/>
            <a:ext cx="73533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08545" descr=""/>
          <p:cNvPicPr/>
          <p:nvPr/>
        </p:nvPicPr>
        <p:blipFill>
          <a:blip r:embed="rId1"/>
          <a:stretch/>
        </p:blipFill>
        <p:spPr>
          <a:xfrm>
            <a:off x="533520" y="2124000"/>
            <a:ext cx="8076960" cy="26100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08546"/>
          <p:cNvSpPr/>
          <p:nvPr/>
        </p:nvSpPr>
        <p:spPr>
          <a:xfrm>
            <a:off x="4897440" y="2158920"/>
            <a:ext cx="95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8547"/>
          <p:cNvSpPr/>
          <p:nvPr/>
        </p:nvSpPr>
        <p:spPr>
          <a:xfrm>
            <a:off x="6372360" y="2133720"/>
            <a:ext cx="952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08548"/>
          <p:cNvSpPr/>
          <p:nvPr/>
        </p:nvSpPr>
        <p:spPr>
          <a:xfrm>
            <a:off x="8075520" y="2176560"/>
            <a:ext cx="619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08549"/>
          <p:cNvSpPr/>
          <p:nvPr/>
        </p:nvSpPr>
        <p:spPr>
          <a:xfrm>
            <a:off x="1116000" y="2708280"/>
            <a:ext cx="619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8550"/>
          <p:cNvSpPr/>
          <p:nvPr/>
        </p:nvSpPr>
        <p:spPr>
          <a:xfrm>
            <a:off x="6300720" y="3213000"/>
            <a:ext cx="1857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8551"/>
          <p:cNvSpPr/>
          <p:nvPr/>
        </p:nvSpPr>
        <p:spPr>
          <a:xfrm>
            <a:off x="3832200" y="3735360"/>
            <a:ext cx="1857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08552"/>
          <p:cNvSpPr/>
          <p:nvPr/>
        </p:nvSpPr>
        <p:spPr>
          <a:xfrm>
            <a:off x="1332000" y="4282920"/>
            <a:ext cx="2619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07521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29800" cy="507708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07522"/>
          <p:cNvSpPr/>
          <p:nvPr/>
        </p:nvSpPr>
        <p:spPr>
          <a:xfrm>
            <a:off x="7859880" y="2216160"/>
            <a:ext cx="371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7960" cy="54486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40800" y="4816440"/>
            <a:ext cx="371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6497" descr=""/>
          <p:cNvPicPr/>
          <p:nvPr/>
        </p:nvPicPr>
        <p:blipFill>
          <a:blip r:embed="rId1"/>
          <a:stretch/>
        </p:blipFill>
        <p:spPr>
          <a:xfrm>
            <a:off x="1324080" y="2214720"/>
            <a:ext cx="64958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2595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1640" cy="390528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25954"/>
          <p:cNvSpPr/>
          <p:nvPr/>
        </p:nvSpPr>
        <p:spPr>
          <a:xfrm>
            <a:off x="7439040" y="2654280"/>
            <a:ext cx="8110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5955"/>
          <p:cNvSpPr/>
          <p:nvPr/>
        </p:nvSpPr>
        <p:spPr>
          <a:xfrm>
            <a:off x="5724360" y="3213000"/>
            <a:ext cx="2573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5956"/>
          <p:cNvSpPr/>
          <p:nvPr/>
        </p:nvSpPr>
        <p:spPr>
          <a:xfrm>
            <a:off x="5651640" y="3789360"/>
            <a:ext cx="25732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7"/>
          <p:cNvSpPr/>
          <p:nvPr/>
        </p:nvSpPr>
        <p:spPr>
          <a:xfrm>
            <a:off x="6227640" y="4365720"/>
            <a:ext cx="2449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25958"/>
          <p:cNvSpPr/>
          <p:nvPr/>
        </p:nvSpPr>
        <p:spPr>
          <a:xfrm>
            <a:off x="1476360" y="4941720"/>
            <a:ext cx="20494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26977" descr=""/>
          <p:cNvPicPr/>
          <p:nvPr/>
        </p:nvPicPr>
        <p:blipFill>
          <a:blip r:embed="rId1"/>
          <a:stretch/>
        </p:blipFill>
        <p:spPr>
          <a:xfrm>
            <a:off x="890640" y="1471680"/>
            <a:ext cx="7362720" cy="391464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26978"/>
          <p:cNvSpPr/>
          <p:nvPr/>
        </p:nvSpPr>
        <p:spPr>
          <a:xfrm>
            <a:off x="5545080" y="1521000"/>
            <a:ext cx="75240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26979"/>
          <p:cNvSpPr/>
          <p:nvPr/>
        </p:nvSpPr>
        <p:spPr>
          <a:xfrm>
            <a:off x="3348000" y="2070000"/>
            <a:ext cx="13334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26980"/>
          <p:cNvSpPr/>
          <p:nvPr/>
        </p:nvSpPr>
        <p:spPr>
          <a:xfrm>
            <a:off x="3348000" y="3213000"/>
            <a:ext cx="1028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26981"/>
          <p:cNvSpPr/>
          <p:nvPr/>
        </p:nvSpPr>
        <p:spPr>
          <a:xfrm>
            <a:off x="2484360" y="3789360"/>
            <a:ext cx="1028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26982"/>
          <p:cNvSpPr/>
          <p:nvPr/>
        </p:nvSpPr>
        <p:spPr>
          <a:xfrm>
            <a:off x="2843280" y="4365720"/>
            <a:ext cx="4124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26983"/>
          <p:cNvSpPr/>
          <p:nvPr/>
        </p:nvSpPr>
        <p:spPr>
          <a:xfrm>
            <a:off x="3581280" y="4941720"/>
            <a:ext cx="275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28001" descr=""/>
          <p:cNvPicPr/>
          <p:nvPr/>
        </p:nvPicPr>
        <p:blipFill>
          <a:blip r:embed="rId1"/>
          <a:stretch/>
        </p:blipFill>
        <p:spPr>
          <a:xfrm>
            <a:off x="1128600" y="1314360"/>
            <a:ext cx="6886800" cy="422928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28002"/>
          <p:cNvSpPr/>
          <p:nvPr/>
        </p:nvSpPr>
        <p:spPr>
          <a:xfrm>
            <a:off x="1897200" y="202572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8003"/>
          <p:cNvSpPr/>
          <p:nvPr/>
        </p:nvSpPr>
        <p:spPr>
          <a:xfrm>
            <a:off x="7164360" y="206064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8004"/>
          <p:cNvSpPr/>
          <p:nvPr/>
        </p:nvSpPr>
        <p:spPr>
          <a:xfrm>
            <a:off x="1838160" y="2708280"/>
            <a:ext cx="466920" cy="13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8005"/>
          <p:cNvSpPr/>
          <p:nvPr/>
        </p:nvSpPr>
        <p:spPr>
          <a:xfrm>
            <a:off x="1908000" y="422100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28006"/>
          <p:cNvSpPr/>
          <p:nvPr/>
        </p:nvSpPr>
        <p:spPr>
          <a:xfrm>
            <a:off x="5292720" y="429264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5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5" descr=""/>
          <p:cNvPicPr/>
          <p:nvPr/>
        </p:nvPicPr>
        <p:blipFill>
          <a:blip r:embed="rId1"/>
          <a:stretch/>
        </p:blipFill>
        <p:spPr>
          <a:xfrm>
            <a:off x="561960" y="1504800"/>
            <a:ext cx="8020080" cy="384840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6"/>
          <p:cNvSpPr/>
          <p:nvPr/>
        </p:nvSpPr>
        <p:spPr>
          <a:xfrm>
            <a:off x="7850160" y="20257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561960" y="1238400"/>
            <a:ext cx="8020080" cy="438120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2882"/>
          <p:cNvSpPr/>
          <p:nvPr/>
        </p:nvSpPr>
        <p:spPr>
          <a:xfrm>
            <a:off x="7869240" y="17589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1857" descr=""/>
          <p:cNvPicPr/>
          <p:nvPr/>
        </p:nvPicPr>
        <p:blipFill>
          <a:blip r:embed="rId1"/>
          <a:stretch/>
        </p:blipFill>
        <p:spPr>
          <a:xfrm>
            <a:off x="552600" y="995400"/>
            <a:ext cx="8038800" cy="48672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1858"/>
          <p:cNvSpPr/>
          <p:nvPr/>
        </p:nvSpPr>
        <p:spPr>
          <a:xfrm>
            <a:off x="7888320" y="15019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1859"/>
          <p:cNvSpPr/>
          <p:nvPr/>
        </p:nvSpPr>
        <p:spPr>
          <a:xfrm>
            <a:off x="7885080" y="350028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0833" descr=""/>
          <p:cNvPicPr/>
          <p:nvPr/>
        </p:nvPicPr>
        <p:blipFill>
          <a:blip r:embed="rId1"/>
          <a:stretch/>
        </p:blipFill>
        <p:spPr>
          <a:xfrm>
            <a:off x="552600" y="1481040"/>
            <a:ext cx="8038800" cy="38959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0834"/>
          <p:cNvSpPr/>
          <p:nvPr/>
        </p:nvSpPr>
        <p:spPr>
          <a:xfrm>
            <a:off x="7802640" y="1978200"/>
            <a:ext cx="37152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980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7819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19810"/>
          <p:cNvSpPr/>
          <p:nvPr/>
        </p:nvSpPr>
        <p:spPr>
          <a:xfrm>
            <a:off x="7850160" y="42069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8785" descr=""/>
          <p:cNvPicPr/>
          <p:nvPr/>
        </p:nvPicPr>
        <p:blipFill>
          <a:blip r:embed="rId1"/>
          <a:stretch/>
        </p:blipFill>
        <p:spPr>
          <a:xfrm>
            <a:off x="566640" y="1185840"/>
            <a:ext cx="8010720" cy="448632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8786"/>
          <p:cNvSpPr/>
          <p:nvPr/>
        </p:nvSpPr>
        <p:spPr>
          <a:xfrm>
            <a:off x="7859880" y="1682640"/>
            <a:ext cx="371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7761" descr=""/>
          <p:cNvPicPr/>
          <p:nvPr/>
        </p:nvPicPr>
        <p:blipFill>
          <a:blip r:embed="rId1"/>
          <a:stretch/>
        </p:blipFill>
        <p:spPr>
          <a:xfrm>
            <a:off x="549360" y="695160"/>
            <a:ext cx="8010360" cy="605808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7762"/>
          <p:cNvSpPr/>
          <p:nvPr/>
        </p:nvSpPr>
        <p:spPr>
          <a:xfrm>
            <a:off x="3116160" y="47307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17763"/>
          <p:cNvSpPr/>
          <p:nvPr/>
        </p:nvSpPr>
        <p:spPr>
          <a:xfrm>
            <a:off x="6300720" y="527220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17764"/>
          <p:cNvSpPr/>
          <p:nvPr/>
        </p:nvSpPr>
        <p:spPr>
          <a:xfrm>
            <a:off x="3851280" y="63086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59:16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